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FE0C-7ED3-4952-A806-989E1FE87BF1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3F59-5E36-4947-B964-C0F4E81DF486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35BD-5D2B-46BC-8B90-08CAA083DE7B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4292-A0A9-4F94-BFEB-CE3E558E6D3F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56B-AE71-42E5-B527-05F9E84A3880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6C99-B06F-43D0-BDB2-410F8D5A424F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5B85-B728-404F-B0E7-B462EF472CCD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5BC-3154-4F39-B2D6-1EE87CEF0A75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D7C-EDB2-4C51-B55E-25CD128BFC7E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CBA-AD92-4815-A415-D55A8B97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4A5-7731-4B52-A26F-E893C4F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C62-8BF4-4A8D-8F00-D93F103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832-4ADD-4191-B0A9-80B91256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B52-0EF6-4332-A61C-22F5EB93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B7A-27CD-4E91-924B-0200CF6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115-E24F-4FE0-9A64-50156F8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9E1-44C9-4EC8-BD90-6B0B6F46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898F-DCC0-4B10-8363-C544FB4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D7DB-B73B-41E7-8585-6EA1E01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430-52F8-45D4-A978-26F042B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640-8C78-4696-9D35-436329F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CC3A-B8D0-43F5-93EF-9A5F6AF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E268-7444-4067-95FA-C31EB45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86B5-5658-4CF3-BD79-A40F145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0B33-A540-4AD8-9E6D-E075C44E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F720-955D-4672-AC3D-E201C895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2F0-DCA3-4E8D-9B64-F0FAF6B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9BE-1352-4294-9869-0383D41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480-2DC5-455E-B4FB-810E5DA2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E3C-CE7A-423B-81C0-775AA97B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A3F-0EF9-4568-8AD1-D6CF4DE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6EA-5195-4E78-8F58-7D73395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530-F45E-48D4-9429-CB6E0FE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12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13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21B-8362-4A89-B058-D484BF55D9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11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12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E5DD-F00F-40CF-A2EC-F51E6FE0D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680" y="214200"/>
            <a:ext cx="8286480" cy="6429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зья мои, я очень рад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ти в приветливый наш класс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меня уже наград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иманье ваших умных гл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8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571920" y="3494160"/>
            <a:ext cx="4786200" cy="3078000"/>
          </a:xfrm>
          <a:prstGeom prst="rect">
            <a:avLst/>
          </a:prstGeom>
          <a:ln w="9360">
            <a:solidFill>
              <a:srgbClr val="fefd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447920" y="1905120"/>
            <a:ext cx="6933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за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урок!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3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3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5238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752480" y="54100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2" name="Рисунок 3" descr="12.png"/>
          <p:cNvPicPr/>
          <p:nvPr/>
        </p:nvPicPr>
        <p:blipFill>
          <a:blip r:embed="rId1"/>
          <a:stretch/>
        </p:blipFill>
        <p:spPr>
          <a:xfrm>
            <a:off x="609480" y="0"/>
            <a:ext cx="3391200" cy="3390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лично, без ошиб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-2 ошибки, есть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ошибки и более, не понял, не нрав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Овал 5"/>
          <p:cNvSpPr/>
          <p:nvPr/>
        </p:nvSpPr>
        <p:spPr>
          <a:xfrm>
            <a:off x="1928880" y="3786120"/>
            <a:ext cx="68580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Овал 6"/>
          <p:cNvSpPr/>
          <p:nvPr/>
        </p:nvSpPr>
        <p:spPr>
          <a:xfrm>
            <a:off x="1981080" y="4419720"/>
            <a:ext cx="685800" cy="53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1981080" y="5029200"/>
            <a:ext cx="685800" cy="533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5"/>
          <p:cNvSpPr/>
          <p:nvPr/>
        </p:nvSpPr>
        <p:spPr>
          <a:xfrm>
            <a:off x="3124080" y="3962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666880" y="4343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9" name="WordArt 29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27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3124080" y="3962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666880" y="4343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WordArt 29"/>
          <p:cNvSpPr txBox="1"/>
          <p:nvPr/>
        </p:nvSpPr>
        <p:spPr>
          <a:xfrm>
            <a:off x="1523880" y="228600"/>
            <a:ext cx="6248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 u="sng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uFillTx/>
                <a:latin typeface="Times New Roman"/>
              </a:rPr>
              <a:t> </a:t>
            </a:r>
            <a:endParaRPr b="1" lang="en-US" sz="4800" spc="1" strike="noStrike" u="sng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uFillTx/>
              <a:latin typeface="Times New Roman"/>
              <a:ea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914400" y="642960"/>
            <a:ext cx="7943400" cy="6295680"/>
            <a:chOff x="914400" y="642960"/>
            <a:chExt cx="7943400" cy="6295680"/>
          </a:xfrm>
        </p:grpSpPr>
        <p:sp>
          <p:nvSpPr>
            <p:cNvPr id="114" name="AutoShape 18"/>
            <p:cNvSpPr/>
            <p:nvPr/>
          </p:nvSpPr>
          <p:spPr>
            <a:xfrm>
              <a:off x="914400" y="642960"/>
              <a:ext cx="7943400" cy="4715280"/>
            </a:xfrm>
            <a:prstGeom prst="verticalScroll">
              <a:avLst>
                <a:gd name="adj" fmla="val 125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1861200" y="1575000"/>
              <a:ext cx="6512760" cy="53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«Если  жизнь  тебя  обманет,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Не  печалься, не  сердись,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В  день  </a:t>
              </a:r>
              <a:r>
                <a:rPr b="1" i="1" lang="ru-RU" sz="3600" spc="-1" strike="noStrike">
                  <a:solidFill>
                    <a:srgbClr val="ffff00"/>
                  </a:solidFill>
                  <a:latin typeface="Times New Roman"/>
                </a:rPr>
                <a:t>уныния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  смирись: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День  </a:t>
              </a:r>
              <a:r>
                <a:rPr b="1" i="1" lang="ru-RU" sz="3600" spc="-1" strike="noStrike">
                  <a:solidFill>
                    <a:srgbClr val="ffff00"/>
                  </a:solidFill>
                  <a:latin typeface="Times New Roman"/>
                </a:rPr>
                <a:t>веселья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, верь, настанет!»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А.С.Пушкин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15238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1752480" y="54100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Times New Roman"/>
              </a:rPr>
              <a:t>Задачи урока: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25760" y="1714320"/>
            <a:ext cx="640080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что такое антон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ь учиться распознавать антонимы в тексте и подбирать их к заданным слова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ься применять антонимы в своей ре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28800" y="285840"/>
          <a:ext cx="7643880" cy="6384960"/>
        </p:xfrm>
        <a:graphic>
          <a:graphicData uri="http://schemas.openxmlformats.org/drawingml/2006/table">
            <a:tbl>
              <a:tblPr/>
              <a:tblGrid>
                <a:gridCol w="271440"/>
                <a:gridCol w="1025280"/>
                <a:gridCol w="879480"/>
                <a:gridCol w="944640"/>
                <a:gridCol w="1122480"/>
                <a:gridCol w="819000"/>
                <a:gridCol w="265320"/>
                <a:gridCol w="272880"/>
                <a:gridCol w="297000"/>
                <a:gridCol w="726840"/>
                <a:gridCol w="468360"/>
                <a:gridCol w="551160"/>
              </a:tblGrid>
              <a:tr h="18892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.И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ние формулировать  определение АНТОНИМов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ние подбирать антонимы из предложенных слов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ние находить (выделять) антонимы в тексте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четание антонимов с другими словами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ние  подбирать (придумывать)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нтонимы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**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ческое задание. 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мение составить загадку. №6*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ст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вая оценка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10240">
                <a:tc gridSpan="6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994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кишев А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итов К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вриленко Д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нингер Д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деева А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грызенко О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рзляков Д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13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тёлкина Е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итяшин Д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розова А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лётов Т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13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вчинникова 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тров Т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лыхань И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мченко А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45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легин А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102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анбабаев Т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  <a:tr h="2102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ревич Е.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1" lang="en-US" sz="12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Picture 8" descr="articles/312963/image1.jpg (13753 bytes)"/>
          <p:cNvPicPr/>
          <p:nvPr/>
        </p:nvPicPr>
        <p:blipFill>
          <a:blip r:embed="rId1"/>
          <a:stretch/>
        </p:blipFill>
        <p:spPr>
          <a:xfrm>
            <a:off x="1000080" y="785880"/>
            <a:ext cx="78566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90720" y="609480"/>
            <a:ext cx="746748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214720" y="738360"/>
            <a:ext cx="521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 нам с тобой пришёл черёд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ыграть в игру «Наоборот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кажу я слово «хорошо»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ты ответишь: «…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кажу я слово «великан»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ты ответишь: «кроха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кажу я слово  «потолок»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ты ответишь: «…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кажу я слово «потерял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 скажешь ты: «…»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кажу тебе я слово «трус»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тветишь ты…(храбрец)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перь НАЧАЛО я скажу,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ы, отвечай:…(конец)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2"/>
          <p:cNvSpPr txBox="1"/>
          <p:nvPr/>
        </p:nvSpPr>
        <p:spPr>
          <a:xfrm>
            <a:off x="2819520" y="2133720"/>
            <a:ext cx="401940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 u="sng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Impact"/>
              </a:rPr>
              <a:t> </a:t>
            </a:r>
            <a:endParaRPr b="1" i="1" lang="en-US" sz="4000" spc="1" strike="noStrike" u="sng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uFillTx/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ефлексия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14680" y="2285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уроке я работал (а)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оей работой на урок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рок для меня показал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 урок я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ё настроени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звало затруднени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ист2</cp:lastModifiedBy>
  <dcterms:modified xsi:type="dcterms:W3CDTF">2014-05-21T00:36:57Z</dcterms:modified>
  <cp:revision>49</cp:revision>
  <dc:subject/>
  <dc:title>Слайд 1</dc:title>
</cp:coreProperties>
</file>